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E10-B5BF-4E4A-9043-3C97C274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CA39-CF05-4EB0-92DB-38807394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F98E0-69C5-41DA-B47D-BAB1B437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79CD5-A7B4-4734-82FD-6C5B4416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38748-D253-4BB5-95DE-8193B420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32E19-E748-4DBA-AD79-B0B801F3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F7D5E-D2F8-4EF6-91E2-B1644124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60488-AF4C-4196-9248-2E093654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BFD28-146B-486E-AAC1-7799AFBE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D1719-670B-432D-A210-5FF26DBE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EBFE7-7A8E-4D02-9625-C4E70CFF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AE7D4-1DA5-4D73-86C3-98BEB385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A48-63FE-4E01-8C48-65B6EE50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0FDD6-A1FA-4A6B-94EB-9C3EC107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75E60-F50D-4554-B363-6F74A92E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A64A8-83AF-4D96-B869-79657A88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D9AEF-0727-4785-B4CD-21D3097A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3A22B-0B8A-43EB-93F2-F5A7DF07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326B9-66A7-45F0-8B17-DC5A7078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31151-4D8F-4B1E-BD99-B262B621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A3AFD-0802-4932-A3F6-A1DF88FA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4CDA3-60AC-4DC1-BF44-400C1E1E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3AB93-62A1-40F4-8E6A-C53641C9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0274-9B96-440C-88C0-5B936762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2F945-F78F-42D5-9B68-01E2AD00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4A460-F5E1-4D25-A491-D083B7FE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140B3-4CE5-4652-9E5E-3968C94A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9B3DB-D9C6-4D37-BBC9-637E0274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8587E-701C-43F9-9E9D-C1FB2148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0F067-3BC8-4199-B449-1C5A639E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FA0CF-758E-4C47-82DC-9F53C1B8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01EE9-18CC-4C78-B0D6-1A10821E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65366-C14C-404D-BE07-D40C460B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F9E06-1241-4914-B8E2-0EB7B9C9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1077-1950-42D0-B245-77F1AB79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BCBC3-8819-4D73-BDF6-B3941D1B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78CA0-7E2B-4CB2-AAD2-693DD7FB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E905F-6382-42F7-9C5C-1DC1B805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562FE-2B36-423F-8E9B-40064C05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C8446-E18A-4282-A768-16D3E6CE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AEC5F-DBB1-4805-95C7-E880717C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E7566-FD5A-4596-B804-CD14DE92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71459-AA14-4CDF-A4C2-64F1B60F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4936B-EA8B-41B7-846D-12D4F63B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40A65-EC89-4D0B-98E8-D3B45004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854E-3D77-476C-BABA-7BA05C69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82FC2-AE0D-403F-9153-5AF2AD39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4E250-9079-491F-96FE-1A8CB7EE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43629-AB5E-4DB5-A396-9863CA7E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F44D8-2C7F-4CD2-81B3-229919DC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7143D-70B6-45B6-B3DA-ED63724D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F992D-5DE2-4A7E-92B7-D087C8BE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402E9-3B9E-421D-A0BA-A68FFB67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4AAE3-C663-41BF-A94C-17A7C72A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F6EA5-E739-4FFC-8F09-8E46504A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9565C-307C-477E-B278-1CE49584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1411-2B76-48D3-BE96-BFDD0787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F39D3-C91C-4A0C-B499-0F22C21A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C5D3A-286F-42C1-852C-42D870AF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79EC5-C6AE-4366-A5FC-AFD4A63E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A0502-7560-464B-A1A3-11A148E3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395CA-2A58-491E-8B38-1D97876F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69C03-F965-4DF3-BFC6-564A8A3D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7E8D1-D8A8-431C-ADE3-4CABB6D2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A7AD8-9C4F-4FEE-9EF8-CA88F156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88CA9-0FD3-4212-AE30-45648220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B2B5B7-15E1-416B-A7B6-A351E9C7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E1D9-10F1-4844-9009-00932AB7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DF1798-895E-49E9-BE92-CC32B068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22270-0B55-4A4C-9D94-3CB8CF98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2ED77-64CD-4B96-92CE-A10070A9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45FF70-722B-4647-8E7D-5E9A898B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05E6F1-082B-4777-B4F2-F414C88F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1EA9A-0535-4935-B3A9-E1039287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3AEB74-E4D7-49C1-9756-26A29E5F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90650B-D0AE-40FB-8E45-25683159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68186-C473-45DA-8684-018823AD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3E8A3-B384-4FD0-8C76-79979179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36FF-EF35-4C20-9172-9335BBF9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E48754-4937-4D9B-B7D6-1831C63F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7DE396-BA50-4B47-8B3E-267372B3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E51C2B-1F15-407A-A2C0-C9A7CF9F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F29F51-E441-4C2A-9EE3-0CDE6FD8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96699D-8E56-48F6-BAA8-A023E031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FC365-9E72-4172-AB57-D5BD279B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98C35E-30E3-49AC-BB06-E11E3E4C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D426AC-B5B3-4E5A-91DC-E76FE9A6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A5E578-F4D5-4415-9153-79C04606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98B667-EF96-4ACC-8D71-4AE6B9D1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8AF0-D9A9-4C44-90A6-C70153F8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5C452-ED35-44C3-A8A2-D3012D03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B46E1E-DA54-4CDB-9769-1BB49EA2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A454BD-E4BF-48E2-9F2E-F7F1CF96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3204FB-23B2-4C91-88B4-08A0DDAF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B3367B-1187-4ED7-97CA-87AD7114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08E65-C0FE-4B71-90A3-B2954EAE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7D34E5-CA3B-4E1F-A861-6F42E319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7672EB-DE88-4D53-9BC3-438C512D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6992D-3F7E-4D8C-9DE7-41A03564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57CEC-9429-4421-83BB-93E6B183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F92B-CC05-44FA-937C-AD45EBA9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FDC9E0-62B0-4D10-BC97-B7E4FB8F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17A36-2FFA-4404-BB63-B2F019EC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4990D2-5A3C-4191-A93E-27F8CE7B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50FD56-B088-4494-8C04-2B5D625C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8C42FE-B31C-4C1F-BB71-B227C455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3828AB-251B-4DFF-A30E-EE47DDD6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C9BD3D-1583-4F66-8AE6-2C81DBEA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3DE9FF-E2CD-4EA9-BD63-239CEA76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6FB569-FDC1-412A-9CD8-141D1BFC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D8B7DF-D388-467C-9B07-CFF48D0B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80E-A845-4EB7-981E-3708219C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6BE9-C234-44C3-85D5-7F19EEF0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7C428E-C963-4144-A217-740CC22D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72FC2-622F-4B95-A52A-621F7450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F95CCE-F7BE-4BC3-9BF2-7E5B5932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A255D8-BD37-4ED9-A73F-361D1C5E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87B748-5A34-44FB-8191-A5B25379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903B6E-BE8F-49A1-8838-70354928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E13115-7C39-49C0-836D-9FC7C535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48B999-C544-46BD-9C2B-EAFE3CD3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1544FD-423E-4688-9C34-B15DB299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342FBB-5D3B-4352-BFC9-3C863C47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55B3-6998-4768-BC67-01C7BDC6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DB6CEE-289E-44CE-A7A5-926C99D1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BBE553-1BE5-4160-9777-B8D59AC6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A6EDD6-7BA8-4051-9E55-5EB998A8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5C2F2E-FD32-4676-8DFE-C6F7FD0D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AC3755-7A09-468E-A70E-961F2973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E7EB8-BC33-46AB-91E8-ED72BB3E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84B99B-011F-4C21-B9ED-E4B25624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355578-F46B-461A-8477-087BED45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BCD822-C3EF-4C7F-9DCE-9938C822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046AEC-406F-48C3-80C4-34E984E0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557C-93A7-47E2-A2E0-F918E00F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4EB9C6-C2FF-408A-8F6C-D4088588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C9EE9B-7942-44D5-9C9F-6301476F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29BFE5-CB3D-41BA-8036-4B94E4DD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738E3A-A733-42A1-B73B-891F95B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50A9FA-86BF-4A2B-A9BD-F8429B0A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DED3D9-0D7C-4252-B0CB-7FA4945B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0AADAE-74E3-4016-9724-541AB424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FCBF0A-A3AC-4384-BA21-E4C0964D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F8786D-AFC4-43DF-A7C3-B371EB16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EC136B-F34A-4439-BF54-89235AD9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CB73-E0AD-4745-B7A6-7645AEBB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878840-6257-4E31-9EDC-BA557ADC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FF5DA7-9605-4341-A8E6-366AB29A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EFB883-28AD-4140-9A45-ABD40C51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E5CF02-7142-4A85-8266-D3EC8E0A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7A66CE-E87A-4F7C-A5FD-27DF593C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E3BAED-5664-4E69-B9C8-0CEDAAC3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149B08-39CA-4C5F-ADDE-0D1F4208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6532C2-A3F3-4388-9551-855F8F02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98DDF1-8A7B-48EC-A32A-264C23DD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9AF2D3-B84C-4241-95A5-3066A73F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BC88-FFB9-443B-857F-D8D1A031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AF472D-C2B2-4217-9B30-483672FD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3C5AF4-2165-4B2B-92E2-6888EDFE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6719DC-30D9-42DD-8505-3F8BF2A5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FF1632-67F6-4DBD-89BC-F1F980D2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CFC4B7-0C12-4CB2-AE45-E95B386D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E73C2E-A6DC-40A6-82FC-50FD961E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391DCB-C412-4137-BA2E-BBD6AD91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3CF5F9-911D-4505-8720-40595F79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47B9F7-D3E8-425E-AA94-8B71BBB7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FD8373-4DE8-4DFA-85ED-A80AFEF6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FDA33-1DC1-49C0-B202-CCD907D5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ECDE98-5B1C-4918-BAD5-B6209811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AF809D-C591-47F1-BA1C-09111146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96FE33-A474-437B-A327-1E246E00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CEDDA-55B7-43F2-A07F-FF9F3020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3C4FE-AB24-4CF5-B7D7-03968E69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FF1ED-53CC-4F6B-9180-B8E9B73A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726D1-5B42-4718-806D-147B6E37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2DD-8545-46D1-8CEF-454B787C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FBA22-1422-4C80-8746-A811D1E0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0D826-E802-445E-B42C-1D924E41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0F277-8EDF-4698-A8CA-5B408137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6DA6E-F95A-48EB-B151-BC3DCE5B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7F5E5-F6E6-457F-9AE5-E836B068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EE1D6-4222-4053-BD74-DEA7A405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4BB8E-2B5C-4243-82AD-0FF3666D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CC72B-5025-40B4-B66C-FD1B0FDD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6ED13-3CFC-4C80-8C21-776D33CA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C83B3-A42F-495E-B306-91A2821D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A46-D049-41B3-B6D3-7A4939C5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EFC91-5466-484A-B37B-D769E0F5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CC4B5-0919-4E2D-B558-A7016BDF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6168A-C104-49AC-A665-8AE95FB6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1A8FD-EA1B-4A3A-89BE-00F60B20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A67F5-695C-4721-A8A5-7B8B89D2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9711-09A8-4941-8BA4-4CD257D8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2BA84-BDE1-4C59-82A1-BB7608EB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BCC69-1B4B-491F-8C9F-1BD14967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F3250-9F7E-40C7-8163-B4337E1E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0A866-F714-43F9-966C-D76FBCC6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576-BDB4-4075-B962-8E0C0B5B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EE4E6-9762-4E89-B7E9-20521E2D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A0E27-7E68-443B-9851-1E2D4C19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370E6-68DF-4976-B17C-E95EE00D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FCABE-BCED-43D4-93C8-8799D069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B0BB8-7978-4FE5-B932-EF4FD08A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563DC-8707-455A-A55E-70A40211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5310B-BAE1-4A49-9C34-855CDB3F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203BE-3E86-4753-BABE-596B308D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63EE4-8E3F-4304-8B9D-9F553EE7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323B6-864F-43F7-B298-848A3C8F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0885-5EF7-4669-82AF-A73AEB15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5837F-7CC5-4C3B-ACE7-BC4CF269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743B1-626D-4A01-85FF-7C32A0D5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62899-D9C7-4595-8CA5-C7A4607F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7FAFF-E8F5-49B9-827E-42A3E8B7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35D9C-307B-47D9-AB24-B33AE733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58408-37AB-4EA9-BBCF-FF91AE0C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59CCB-EF30-4767-A6A1-D1D984D8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1143E-953D-4750-A983-EA02F756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2858E-AF3A-4C61-84D7-9669BC98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35308-48C5-4F5C-9F8B-F9752391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19C-945F-42E5-A340-C521E3BD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50AB6-A625-4035-8148-B57ED6FE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E8E83-6F28-4DA3-A2DF-1DCEE9D6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EA27E-C85B-4AAF-AC68-D775FAF9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2B314-13E9-4D40-B8F4-B465A2B9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690BD-5A9E-4F6C-A80F-F13EB18D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AD1F7-F814-42CB-B8D4-DF2AF78C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A40DB-B05C-49FC-9E53-0BC8AB0C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3B5F0-B761-4636-8551-E7ACED33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BDC8F-79C2-413D-BD67-3305D0C2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C0BD0-A342-4474-9BAA-0CCF2FF2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2F7-1E8B-4B1F-B478-EC0C1086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471F6-77F7-4500-A6B9-BB29FAFC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1D2AD-422C-4B37-9C63-9A74B001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B6F77-7843-41B3-9FDB-58B44357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406A3-14F4-40EC-92D6-9C07F857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5AC8F-9504-44D4-8564-EF708C33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3686F-06F1-41A7-A7E1-13F12249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7F1C2-E6F6-4104-B050-C9E1DE6C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6ECCA-0943-4946-83B5-EFCDFBBE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2EA7B-624C-4EFD-AB5B-EAD98E5E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17785-ADA7-45E8-8A4D-D9592D04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E58-2020-4333-9EAB-BA054ABC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2E622-E507-4560-9B4A-409EC462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4C3C5-9601-492D-9FDA-6F2C94D7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0ECC2-9694-468E-97D3-2F0C107D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24E71-6E68-42FA-A4C8-4FF30040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2E5B7-37D7-4904-8300-0FFFC4F5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8C6A0-84DB-4D32-92A9-71400833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E93A8-9369-421B-8AA3-C02DF290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71496-1BC8-4A67-936C-19963D07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2918E-8249-4134-A237-4BCC8EC1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0D05F-9E1F-4FBE-A4D9-35C8BD19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F1B9-5D71-4FCF-9A27-19637DCA4E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33F8-4443-4C7A-A31B-9E465F43B1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B124-C504-4BF7-9768-2796D71B12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BFC4-3DD2-4E6B-BED2-94E5D5C429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35B3-8271-4174-B8F6-DF972A7F13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89F7-E646-4CA4-9ED6-8970AB2E35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89CA-0453-42DD-953F-A5D8C070B8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03CC-8793-4DB7-AAFB-95AB28AC87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ABB4-3888-4095-BC28-C448DF027E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D3A4-0061-4591-827F-7576CB68AB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9A06-7FDD-4775-8F33-23991F8FCF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3F5B-CF69-4757-ABC2-7694ADFB73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F5C6-6BE3-4EB2-9E7E-8AFA544785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E0D0-D69D-4DEE-BA07-B40C6B0840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451A-8282-4281-B3C4-E8EA7EB800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60AB-F3C9-4A9A-BDED-1B3393C019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470C-6B1C-47D1-873F-3B141F8C56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4344-6CB7-4674-9AF1-3F4690065D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B871-D819-4666-AE92-6C9266069C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4167-21EF-436F-AB97-60E20B8C0A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C7F9-75F3-4383-9F86-A0202E10C4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9BD7-3621-4323-BEBA-7881F4131A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1249-C33E-42FF-9B4D-F73EE41C7D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DE94-D4F7-4779-BE91-38ECF497D5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22FA-DEE2-45D2-BCFB-D916B5FB69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F64A-EE42-4BC5-BF88-011E564DA6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C4F6-AA21-4D7D-913C-ECEE06F4A6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2D05-1094-4318-9A47-CB1577D8D0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DF93-04B1-4165-99F8-B0904F7E9A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DC21-D446-40E0-8072-82912DD9DA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5883-25B7-440E-A29E-09078378E6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BD5E-4AA5-4994-AEB9-BCE9EAD3E5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3671-36F1-4661-9750-933C2D4496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2EBD-EC12-4B80-B7BC-6BCAADC5BE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359E-8DE1-4F5F-AB20-27080DC9E5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A2BC-9DD9-4664-B451-AB0CDFBFCE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314E-9685-40FF-9800-F9B1EE266D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F8D7-95A5-427A-A85D-289B158837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B331-8E4C-4383-9AD3-367726CB94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560D-64C7-4EAD-8664-D3E26CEE36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495440" y="2995560"/>
            <a:ext cx="61531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69633" descr=""/>
          <p:cNvPicPr/>
          <p:nvPr/>
        </p:nvPicPr>
        <p:blipFill>
          <a:blip r:embed="rId1"/>
          <a:stretch/>
        </p:blipFill>
        <p:spPr>
          <a:xfrm>
            <a:off x="61920" y="861840"/>
            <a:ext cx="9020160" cy="5591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755640" y="3803760"/>
            <a:ext cx="259236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826920" y="4508640"/>
            <a:ext cx="259272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826920" y="522936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843120" y="5891040"/>
            <a:ext cx="49528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8609" descr=""/>
          <p:cNvPicPr/>
          <p:nvPr/>
        </p:nvPicPr>
        <p:blipFill>
          <a:blip r:embed="rId1"/>
          <a:stretch/>
        </p:blipFill>
        <p:spPr>
          <a:xfrm>
            <a:off x="876240" y="1125360"/>
            <a:ext cx="7391520" cy="230508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8610" descr=""/>
          <p:cNvPicPr/>
          <p:nvPr/>
        </p:nvPicPr>
        <p:blipFill>
          <a:blip r:embed="rId2"/>
          <a:stretch/>
        </p:blipFill>
        <p:spPr>
          <a:xfrm>
            <a:off x="52560" y="3683160"/>
            <a:ext cx="9038880" cy="2266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4284720" y="17589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4356000" y="237816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7539120" y="17589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7451640" y="24210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1763640" y="429264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1547640" y="494172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5364000" y="429264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5364000" y="494172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8459640" y="4292640"/>
            <a:ext cx="669960" cy="4474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8244000" y="4941720"/>
            <a:ext cx="6699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33200" y="1681200"/>
            <a:ext cx="8877600" cy="34956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588000" y="4005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732720" y="46530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457200" y="1085760"/>
            <a:ext cx="8229600" cy="4686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262728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536400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5651640" y="3789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4356000" y="52434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442800" y="1695600"/>
            <a:ext cx="8258400" cy="34668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1692360" y="2492280"/>
            <a:ext cx="172728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1979640" y="3141720"/>
            <a:ext cx="266364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4500720" y="4508640"/>
            <a:ext cx="23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7352" descr=""/>
          <p:cNvPicPr/>
          <p:nvPr/>
        </p:nvPicPr>
        <p:blipFill>
          <a:blip r:embed="rId1"/>
          <a:stretch/>
        </p:blipFill>
        <p:spPr>
          <a:xfrm>
            <a:off x="195120" y="839880"/>
            <a:ext cx="8753760" cy="58291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826920" y="249228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2484360" y="1700280"/>
            <a:ext cx="165600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6372360" y="1685880"/>
            <a:ext cx="216036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3879720" y="2320920"/>
            <a:ext cx="48974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6324" descr=""/>
          <p:cNvPicPr/>
          <p:nvPr/>
        </p:nvPicPr>
        <p:blipFill>
          <a:blip r:embed="rId1"/>
          <a:stretch/>
        </p:blipFill>
        <p:spPr>
          <a:xfrm>
            <a:off x="733320" y="1461960"/>
            <a:ext cx="7677360" cy="39340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2808360" cy="24480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2340000" y="1657440"/>
            <a:ext cx="208764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5003640" y="2335320"/>
            <a:ext cx="3097440" cy="33256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6588000" y="1643040"/>
            <a:ext cx="208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5300" descr=""/>
          <p:cNvPicPr/>
          <p:nvPr/>
        </p:nvPicPr>
        <p:blipFill>
          <a:blip r:embed="rId1"/>
          <a:stretch/>
        </p:blipFill>
        <p:spPr>
          <a:xfrm>
            <a:off x="318960" y="1347840"/>
            <a:ext cx="8506080" cy="41623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525600" y="2276640"/>
            <a:ext cx="2663640" cy="2736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2211480" y="1512720"/>
            <a:ext cx="205884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3706920" y="2176560"/>
            <a:ext cx="5113080" cy="332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6746760" y="1512720"/>
            <a:ext cx="20592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4276" descr=""/>
          <p:cNvPicPr/>
          <p:nvPr/>
        </p:nvPicPr>
        <p:blipFill>
          <a:blip r:embed="rId1"/>
          <a:stretch/>
        </p:blipFill>
        <p:spPr>
          <a:xfrm>
            <a:off x="85680" y="981000"/>
            <a:ext cx="8972640" cy="48960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826920" y="328464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755640" y="404820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755640" y="471024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826920" y="5388120"/>
            <a:ext cx="475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119160" y="985680"/>
            <a:ext cx="8905680" cy="4886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489600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489600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611280" y="4695840"/>
            <a:ext cx="84153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11:3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